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1DB99-BC27-4B9D-889E-7E2DEAAC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8A812-FB8D-4E82-9323-4AD6F5F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A133E-48CD-4CA0-865C-98C7522D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7B0E-99B5-401D-B878-2B4541C8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8491D-3E5F-46F4-8505-DC327CD1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18271-E253-474F-A963-3DFECFE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2ABFD-5717-4497-A848-B6B7BA0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E1B19-663D-4F4E-BEAE-3D7B50F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D718C-0FB0-4FB5-A231-A2C22E2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A2830-4DC7-47C4-9D57-0D5309E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715E6-7EDE-4D4F-96BF-80A5A255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FC812-4D16-4ECF-B03A-3DEC4ADD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C1854-58B1-4196-A230-12658CEF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2D80E-A065-471C-B21E-77C1800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8E8B8-A50D-4012-A249-3779631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3E6C6-DA79-4ED3-81F8-C4713F27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3B5EA-300F-4935-BD53-0A781EED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01ECD-C27A-43AD-9151-C46BEBBB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5C405-B0B1-4ED3-917B-BB6EDDC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54836-7071-44FE-8341-C0E92C20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8F0E1-188B-4537-8CAA-BF66E57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8C49F-6FE3-4F62-8354-1E4C5DE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4B91C-AECC-45BE-8522-4B515037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0CA71-659E-4279-A2F9-40F97F33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69EE8-410C-4FAC-8DC1-23ACCED7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7F956-B7A0-474A-B6B0-F727AC8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D1B25-97B5-4504-B613-4915EE05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30CDB-498B-4B93-BF20-8FF977F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2E8D1-CFF6-495F-B75D-C227295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8FFA0-163D-4EF5-AA04-B87A40D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2603A-0859-4CA8-B7E5-E3F23BE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08AB8-7147-47C0-8A54-65ECFDA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DB100-BF16-483C-9DDE-8CA50CF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BB1B8-FAFB-466B-9818-D7FB97F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32BE1-916D-46D3-BA27-36A6001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8560F-3540-40C4-8EC4-E882A3A3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A467F-4799-4EA5-9DCF-BA34EC81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0FC9F-3494-43C9-8114-10E10B7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C3B83-A939-4804-860E-D73B677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569D6-C95D-494C-9896-3D6E5BD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3AE3A-12D5-4971-A5BB-A8551F69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4C0D5-6594-4AB9-9301-F7E157F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E4729-C870-48D7-84AE-5173D93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B7260-068B-4B2A-A639-0C690D3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B250C-8FB3-427F-9709-E0478BD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D554F-C219-4FAA-BD7F-027C81C4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EA595-2E72-4F9B-9D63-75DC8EC5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CB0E5-07C8-4358-82FF-7ACF8878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1C4-E37F-4DE9-AD30-ECBA03D1CDC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F6F-B12F-4C1E-BEC9-2C1E2FBDDF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B932-F04C-4627-B973-F159D7B1B2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ED5-A777-4B1E-A690-6A1F8BC11A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F78-EEBE-461D-8DB1-57D53455857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Sistemi Distribuiti: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MI Avan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63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35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He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05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992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Message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437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553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476360" y="1438200"/>
            <a:ext cx="7056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7128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514520" y="1341360"/>
            <a:ext cx="6729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12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ustom RMI 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481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67000" y="1268280"/>
            <a:ext cx="72086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5610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OutputStr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62240" y="1413000"/>
            <a:ext cx="7170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91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416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365120" y="1413000"/>
            <a:ext cx="7310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2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55920" y="1484280"/>
            <a:ext cx="683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37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905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620720" y="1498680"/>
            <a:ext cx="6767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istributed Garbage Colle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200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6:09Z</dcterms:modified>
  <cp:revision>67</cp:revision>
  <dc:subject/>
  <dc:title>Diapositiva 1</dc:title>
</cp:coreProperties>
</file>